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7A1A9-519B-44BE-8004-12577ED8B3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05A5B-D35A-4269-9D85-00CB8F16D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6404A-CE44-46DD-A773-488A604CE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86CFC-8087-4D7A-A008-9318FA8DA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8E171-132E-4143-BB85-3B0246BD7C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85B5-5C29-446C-A308-1A0849CD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C45A-7028-49AC-A20D-885EF07E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D29-8167-4FD1-9C08-7A6F96F9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8804-E32B-464A-BDDC-86093285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877E-2AF7-468E-B040-FD48B2DE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5BB-4AA2-4699-96D6-A121C5EE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123D-58C9-4540-9A1A-51D6692A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7A13-06F1-4EB6-93F0-92C7199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D76-4D4D-4F17-B968-85DA7BAE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DABA-0732-48A3-B1A8-7B13A3D2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475-80EF-4D05-87F0-1020DBA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6C2-37E1-449C-B8E4-8021411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426A-9DD8-40E3-BB78-1AE9DDAD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0008-24CF-4A06-A7F6-D59D43F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4DF5-5A93-4204-9459-638E1BBA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4018-CD1E-4888-9A96-CCD054F8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34D4-A6E8-407F-B222-C09CD5A4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1969B-5F09-4AB2-923B-2627F235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5C878-2BF9-4670-823E-ED64425C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52EEE-6381-42AF-A738-20A1819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288E-1DA7-47C9-B8D6-BC45B137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A297-632A-430C-810C-E069BDF2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5FD-1C78-4ED0-9463-887CD701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BFEE-A1DD-4FFF-BC47-32B1DD4A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5C10-BD71-4BE9-A6E3-04ED0FEE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C20C-61F9-47CD-88DA-6169B8A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B805-E9DB-47FD-AC4B-4161767E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7449C-50A8-41CC-9C39-9F1FBD0C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4B1B8-DFB4-49D3-B643-3CB9D208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AA3AB-9C6C-47FD-9CBF-4BA20BBB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1437-E3E7-4B85-A445-6BC75627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CA845-1BB8-4114-B5E2-B840946D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308F-98BB-43A9-89DF-2B601E95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845-DE93-47AE-89BD-C42E86BC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6568-AC8B-4156-A8B9-732504CA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77864-6892-4E98-90C9-1853881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6B720-1EC9-4985-8679-AAB66D0A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266CB-8A96-442E-80D7-14487DC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9ADE5-E808-48D9-B7A5-CA603A7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A2D3A-3AA5-4568-A283-4C3C726B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C6BC9-C648-4431-8FC5-08B88E21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29B56-893A-4B04-9049-3EEFF095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9E65-7F8C-447B-90BB-4EE4E90B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31915-F40B-4492-A1DE-66CAC4A0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BAD-2BBE-44B9-9A4C-8D534C1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FDBC4-F72D-4447-97F6-86D030A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A58D5-9E0B-46A1-9B7C-100E636A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B6926-EC5B-48B4-BD77-B384C42D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EBF38-42C8-4F3D-8D93-9B5BF183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CF46B-21B1-4E4F-B980-5485A2E2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A35C-6D05-41FD-9B55-7D674C17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2C67B-883E-47DC-A825-3347A78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1AA1B-790D-4DDC-832C-2F2254AE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1119A-2272-4AC4-83B6-F227B9DC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727D4-1C0D-4A27-945A-95FCFB87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54C-7ABD-44B8-915C-BCF9DE2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CACE6-2049-423E-BAC1-C1D6F0FE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204A8-7242-444F-BDDB-151B8A46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87AC-558C-4C2E-805D-6D9B115A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7756-6AD6-411F-82BA-B78EFF2A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71BA8-4004-40A1-891C-90E9421D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7EEFF-9904-4804-A032-F1E7EC7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6032B-6A4F-4E45-821E-B118C127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8EAA9-7B06-4631-A684-EE9A7A6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C7B8-5738-4DA3-8C04-5708BB2B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55985-A916-42DB-A79E-D595D6D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A61-3EF3-4F62-A235-AF1766A7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2792A-0D12-446E-AC02-1D683CC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46CD3-756F-4FF2-8D3A-40248B8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586C7-0A5A-49C1-B492-3566550A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9167A-89B9-4793-9B35-E5E960DB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D1574-A09E-4991-BC24-BE9101A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E06B5-7DDF-48A1-94AB-63BB77CA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0FE6-47F5-460D-B0D1-4CCC41F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68C67-01F8-4D0F-A359-E02EC7C8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9C8B4-55F3-4EBD-9EC1-BE738F70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5AF6A-3494-4C1E-B4D0-9C29E08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CE3-FEC9-49A9-B5C3-C96193B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59D85-F42A-4B91-8615-67304B9F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264E-8140-4692-8F16-F942EEB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ACE5-6AF8-4F86-BCA9-BFBE6121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C5EA-C8D7-4EB1-91DB-193C2E8E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3D118-4B91-48CE-873C-818131DC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A7D-5A07-426D-A0B9-E2858323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54855-5D3D-4B28-9752-6D16011DA196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024F5-2A32-4D5D-ABF7-7382489500E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775CB-8DA8-44A8-8B8B-63635D6A6D3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794A5-254C-4334-9859-2D6C4991DF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9F340-4E7C-47B7-AC7D-55899BBEB87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7521F-4D84-48EB-A8BC-4B3A3B80AB8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C3DED-AA0A-447A-B5B0-849742D7159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AFD33F-644E-4C9B-B98E-3288FE7246F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5A5D2-1F83-4656-9FAE-B1C692BC0E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37CEED-91FE-46E4-9B2A-F808DD5B30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F5260-91FF-449C-9431-963DAD8A70B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DF0E2B-7A1C-41D7-8316-A02A11B4D06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265957-7306-4D41-A540-B8F4BE9B081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DFB1C-10CB-45F1-B8D3-A61375FB94E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2"/>
          <a:stretch/>
        </p:blipFill>
        <p:spPr>
          <a:xfrm>
            <a:off x="1600200" y="457200"/>
            <a:ext cx="6435720" cy="6446880"/>
          </a:xfrm>
          <a:prstGeom prst="rect">
            <a:avLst/>
          </a:prstGeom>
          <a:ln w="0">
            <a:noFill/>
          </a:ln>
        </p:spPr>
      </p:pic>
      <p:sp>
        <p:nvSpPr>
          <p:cNvPr id="415" name="TextBox 5"/>
          <p:cNvSpPr/>
          <p:nvPr/>
        </p:nvSpPr>
        <p:spPr>
          <a:xfrm>
            <a:off x="5486400" y="4586400"/>
            <a:ext cx="314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ppendi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estigial org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ot nee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does the large intestine do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psorption of wa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sorption of certain vitam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lso contains: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l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igmen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heavy metals, and billions of </a:t>
            </a: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E. coli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providing colour and odo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What do E. coli do for you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k down some indigestible f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duce some vitamins, amino acids, and other growth fac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1087200" y="907560"/>
            <a:ext cx="7499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6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hysical diges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eeth and stomach churning broke it into pie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Bile broke the fats into smaller glob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6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hemical digestio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alivary amylase: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starch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epsin in stomach: 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protein </a:t>
            </a:r>
            <a:r>
              <a:rPr b="0" i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 pept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ncreatic amylase: 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starch </a:t>
            </a:r>
            <a:r>
              <a:rPr b="0" i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malto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rypsin from the pancrea: 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protein </a:t>
            </a:r>
            <a:r>
              <a:rPr b="0" i="1" lang="en-US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00ff"/>
                </a:solidFill>
                <a:latin typeface="Gill Sans MT"/>
              </a:rPr>
              <a:t> peptid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Lipase from the pancreas</a:t>
            </a:r>
            <a:r>
              <a:rPr b="0" i="1" lang="en-US" sz="2800" spc="-1" strike="noStrike">
                <a:solidFill>
                  <a:srgbClr val="0d0d0d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8000"/>
                </a:solidFill>
                <a:latin typeface="Gill Sans MT"/>
              </a:rPr>
              <a:t> fats </a:t>
            </a:r>
            <a:r>
              <a:rPr b="0" i="1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</a:t>
            </a:r>
            <a:r>
              <a:rPr b="0" i="1" lang="en-US" sz="2800" spc="-1" strike="noStrike">
                <a:solidFill>
                  <a:srgbClr val="008000"/>
                </a:solidFill>
                <a:latin typeface="Gill Sans MT"/>
              </a:rPr>
              <a:t> glycerol + fatty aci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1 CuadroTexto"/>
          <p:cNvSpPr/>
          <p:nvPr/>
        </p:nvSpPr>
        <p:spPr>
          <a:xfrm>
            <a:off x="1258920" y="1843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Diges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Indigestion?</a:t>
            </a:r>
            <a:br>
              <a:rPr sz="3500"/>
            </a:b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Disorders in the large intestine and symptom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1397160" y="243828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1ZIK6Ua20JA&amp;feature=channel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383560" y="3962520"/>
            <a:ext cx="50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0yLPtYH6x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1434960" y="5010120"/>
            <a:ext cx="69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review of dig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QtDgQjOGPJ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mall intestine z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 Zon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dodenum, Jejenum, Iliu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4083120" y="2637000"/>
            <a:ext cx="5078520" cy="4066920"/>
          </a:xfrm>
          <a:prstGeom prst="rect">
            <a:avLst/>
          </a:prstGeom>
          <a:ln w="0">
            <a:noFill/>
          </a:ln>
        </p:spPr>
      </p:pic>
      <p:sp>
        <p:nvSpPr>
          <p:cNvPr id="331" name="3 CuadroTexto"/>
          <p:cNvSpPr/>
          <p:nvPr/>
        </p:nvSpPr>
        <p:spPr>
          <a:xfrm>
            <a:off x="900000" y="2421000"/>
            <a:ext cx="331164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Approx. 6m lo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digestion and absorption of nutrients occur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2"/>
          <p:cNvSpPr/>
          <p:nvPr/>
        </p:nvSpPr>
        <p:spPr>
          <a:xfrm flipH="1">
            <a:off x="908280" y="2016000"/>
            <a:ext cx="212400" cy="65268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Fats break down to molecular level!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762120" y="2438280"/>
            <a:ext cx="304560" cy="175284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066680" y="243828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066680" y="320040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1066680" y="388620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 rot="18492600">
            <a:off x="5638680" y="2437920"/>
            <a:ext cx="304920" cy="1752480"/>
          </a:xfrm>
          <a:prstGeom prst="rect">
            <a:avLst/>
          </a:prstGeom>
          <a:solidFill>
            <a:srgbClr val="66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lyc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 rot="20085600">
            <a:off x="6629400" y="1904760"/>
            <a:ext cx="16765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"/>
          <p:cNvSpPr/>
          <p:nvPr/>
        </p:nvSpPr>
        <p:spPr>
          <a:xfrm rot="21024000">
            <a:off x="7010280" y="266652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"/>
          <p:cNvSpPr/>
          <p:nvPr/>
        </p:nvSpPr>
        <p:spPr>
          <a:xfrm rot="502800">
            <a:off x="6781680" y="3428640"/>
            <a:ext cx="16765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tty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2"/>
          <p:cNvSpPr/>
          <p:nvPr/>
        </p:nvSpPr>
        <p:spPr>
          <a:xfrm>
            <a:off x="3657600" y="3505320"/>
            <a:ext cx="10335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 rot="5003400">
            <a:off x="1035360" y="1783080"/>
            <a:ext cx="290520" cy="22860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4"/>
          <p:cNvGrpSpPr/>
          <p:nvPr/>
        </p:nvGrpSpPr>
        <p:grpSpPr>
          <a:xfrm>
            <a:off x="669600" y="1740240"/>
            <a:ext cx="579600" cy="888480"/>
            <a:chOff x="669600" y="1740240"/>
            <a:chExt cx="579600" cy="888480"/>
          </a:xfrm>
        </p:grpSpPr>
        <p:sp>
          <p:nvSpPr>
            <p:cNvPr id="345" name="Oval 15"/>
            <p:cNvSpPr/>
            <p:nvPr/>
          </p:nvSpPr>
          <p:spPr>
            <a:xfrm rot="5003400">
              <a:off x="654480" y="1783080"/>
              <a:ext cx="290520" cy="2286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6"/>
            <p:cNvSpPr/>
            <p:nvPr/>
          </p:nvSpPr>
          <p:spPr>
            <a:xfrm>
              <a:off x="893880" y="2041560"/>
              <a:ext cx="355320" cy="58716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7"/>
          <p:cNvSpPr/>
          <p:nvPr/>
        </p:nvSpPr>
        <p:spPr>
          <a:xfrm rot="16200000">
            <a:off x="1631880" y="1263600"/>
            <a:ext cx="546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Lip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1448640" y="4572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9"/>
          <p:cNvSpPr/>
          <p:nvPr/>
        </p:nvSpPr>
        <p:spPr>
          <a:xfrm rot="16200000">
            <a:off x="1638000" y="3237840"/>
            <a:ext cx="304920" cy="2362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5943600" y="4419720"/>
            <a:ext cx="264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f271c"/>
                </a:solidFill>
                <a:latin typeface="Arial"/>
              </a:rPr>
              <a:t>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Digestive Enzymes from the Interstitial gland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Oval 3"/>
          <p:cNvSpPr/>
          <p:nvPr/>
        </p:nvSpPr>
        <p:spPr>
          <a:xfrm>
            <a:off x="1442880" y="24382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6"/>
          <p:cNvSpPr/>
          <p:nvPr/>
        </p:nvSpPr>
        <p:spPr>
          <a:xfrm>
            <a:off x="685800" y="24382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>
            <a:off x="1123920" y="2689200"/>
            <a:ext cx="353880" cy="19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3429000" y="2743200"/>
            <a:ext cx="10335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9"/>
          <p:cNvSpPr/>
          <p:nvPr/>
        </p:nvSpPr>
        <p:spPr>
          <a:xfrm>
            <a:off x="6324480" y="266688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7467480" y="205740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1"/>
          <p:cNvSpPr/>
          <p:nvPr/>
        </p:nvSpPr>
        <p:spPr>
          <a:xfrm>
            <a:off x="5545080" y="189072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2"/>
          <p:cNvGrpSpPr/>
          <p:nvPr/>
        </p:nvGrpSpPr>
        <p:grpSpPr>
          <a:xfrm>
            <a:off x="380880" y="1828800"/>
            <a:ext cx="1657440" cy="800280"/>
            <a:chOff x="380880" y="1828800"/>
            <a:chExt cx="1657440" cy="800280"/>
          </a:xfrm>
        </p:grpSpPr>
        <p:sp>
          <p:nvSpPr>
            <p:cNvPr id="360" name="Freeform 13"/>
            <p:cNvSpPr/>
            <p:nvPr/>
          </p:nvSpPr>
          <p:spPr>
            <a:xfrm>
              <a:off x="380880" y="1828800"/>
              <a:ext cx="1657440" cy="800280"/>
            </a:xfrm>
            <a:custGeom>
              <a:avLst/>
              <a:gdLst>
                <a:gd name="textAreaLeft" fmla="*/ 0 w 1657440"/>
                <a:gd name="textAreaRight" fmla="*/ 1657800 w 1657440"/>
                <a:gd name="textAreaTop" fmla="*/ 0 h 800280"/>
                <a:gd name="textAreaBottom" fmla="*/ 800640 h 800280"/>
              </a:gdLst>
              <a:ahLst/>
              <a:rect l="textAreaLeft" t="textAreaTop" r="textAreaRight" b="textAreaBottom"/>
              <a:pathLst>
                <a:path w="1392" h="672">
                  <a:moveTo>
                    <a:pt x="0" y="672"/>
                  </a:moveTo>
                  <a:lnTo>
                    <a:pt x="240" y="672"/>
                  </a:lnTo>
                  <a:lnTo>
                    <a:pt x="288" y="576"/>
                  </a:lnTo>
                  <a:lnTo>
                    <a:pt x="341" y="544"/>
                  </a:lnTo>
                  <a:lnTo>
                    <a:pt x="432" y="528"/>
                  </a:lnTo>
                  <a:lnTo>
                    <a:pt x="514" y="535"/>
                  </a:lnTo>
                  <a:lnTo>
                    <a:pt x="576" y="576"/>
                  </a:lnTo>
                  <a:lnTo>
                    <a:pt x="624" y="624"/>
                  </a:lnTo>
                  <a:lnTo>
                    <a:pt x="864" y="624"/>
                  </a:lnTo>
                  <a:lnTo>
                    <a:pt x="944" y="553"/>
                  </a:lnTo>
                  <a:lnTo>
                    <a:pt x="1056" y="528"/>
                  </a:lnTo>
                  <a:lnTo>
                    <a:pt x="1182" y="553"/>
                  </a:lnTo>
                  <a:lnTo>
                    <a:pt x="1248" y="624"/>
                  </a:lnTo>
                  <a:lnTo>
                    <a:pt x="1392" y="624"/>
                  </a:lnTo>
                  <a:lnTo>
                    <a:pt x="1344" y="144"/>
                  </a:lnTo>
                  <a:lnTo>
                    <a:pt x="816" y="0"/>
                  </a:lnTo>
                  <a:lnTo>
                    <a:pt x="384" y="96"/>
                  </a:lnTo>
                  <a:lnTo>
                    <a:pt x="48" y="192"/>
                  </a:lnTo>
                  <a:lnTo>
                    <a:pt x="0" y="672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"/>
            <p:cNvSpPr/>
            <p:nvPr/>
          </p:nvSpPr>
          <p:spPr>
            <a:xfrm>
              <a:off x="685800" y="19810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al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15"/>
          <p:cNvSpPr/>
          <p:nvPr/>
        </p:nvSpPr>
        <p:spPr>
          <a:xfrm>
            <a:off x="457200" y="310680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Maltose (from carbohyd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7162920" y="2743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7"/>
          <p:cNvSpPr/>
          <p:nvPr/>
        </p:nvSpPr>
        <p:spPr>
          <a:xfrm rot="16200000">
            <a:off x="1134000" y="2402280"/>
            <a:ext cx="304920" cy="122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226880"/>
              <a:gd name="textAreaBottom" fmla="*/ 1175400 h 122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53"/>
                  <a:pt x="10800" y="2906"/>
                </a:cubicBezTo>
                <a:lnTo>
                  <a:pt x="10800" y="7894"/>
                </a:lnTo>
                <a:cubicBezTo>
                  <a:pt x="10800" y="9347"/>
                  <a:pt x="5400" y="10800"/>
                  <a:pt x="0" y="10800"/>
                </a:cubicBezTo>
                <a:cubicBezTo>
                  <a:pt x="5400" y="10800"/>
                  <a:pt x="10800" y="12253"/>
                  <a:pt x="10800" y="13706"/>
                </a:cubicBezTo>
                <a:lnTo>
                  <a:pt x="10800" y="18694"/>
                </a:lnTo>
                <a:cubicBezTo>
                  <a:pt x="10800" y="201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18"/>
          <p:cNvSpPr/>
          <p:nvPr/>
        </p:nvSpPr>
        <p:spPr>
          <a:xfrm>
            <a:off x="1519200" y="46483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967040" y="4889520"/>
            <a:ext cx="245880" cy="144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20"/>
          <p:cNvSpPr/>
          <p:nvPr/>
        </p:nvSpPr>
        <p:spPr>
          <a:xfrm>
            <a:off x="2187720" y="468324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21"/>
          <p:cNvSpPr/>
          <p:nvPr/>
        </p:nvSpPr>
        <p:spPr>
          <a:xfrm>
            <a:off x="762120" y="46483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1200240" y="4898880"/>
            <a:ext cx="353880" cy="1908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3505320" y="4952880"/>
            <a:ext cx="10332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4"/>
          <p:cNvSpPr/>
          <p:nvPr/>
        </p:nvSpPr>
        <p:spPr>
          <a:xfrm>
            <a:off x="6400800" y="487692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5"/>
          <p:cNvSpPr/>
          <p:nvPr/>
        </p:nvSpPr>
        <p:spPr>
          <a:xfrm>
            <a:off x="7543800" y="4267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6"/>
          <p:cNvSpPr/>
          <p:nvPr/>
        </p:nvSpPr>
        <p:spPr>
          <a:xfrm>
            <a:off x="5715000" y="4267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7"/>
          <p:cNvGrpSpPr/>
          <p:nvPr/>
        </p:nvGrpSpPr>
        <p:grpSpPr>
          <a:xfrm>
            <a:off x="457200" y="3568680"/>
            <a:ext cx="1676520" cy="1270080"/>
            <a:chOff x="457200" y="3568680"/>
            <a:chExt cx="1676520" cy="1270080"/>
          </a:xfrm>
        </p:grpSpPr>
        <p:sp>
          <p:nvSpPr>
            <p:cNvPr id="375" name="Freeform 28"/>
            <p:cNvSpPr/>
            <p:nvPr/>
          </p:nvSpPr>
          <p:spPr>
            <a:xfrm>
              <a:off x="457200" y="3568680"/>
              <a:ext cx="1676520" cy="12700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1056" h="800">
                  <a:moveTo>
                    <a:pt x="0" y="800"/>
                  </a:moveTo>
                  <a:lnTo>
                    <a:pt x="180" y="800"/>
                  </a:lnTo>
                  <a:lnTo>
                    <a:pt x="216" y="728"/>
                  </a:lnTo>
                  <a:lnTo>
                    <a:pt x="256" y="704"/>
                  </a:lnTo>
                  <a:lnTo>
                    <a:pt x="324" y="692"/>
                  </a:lnTo>
                  <a:lnTo>
                    <a:pt x="386" y="697"/>
                  </a:lnTo>
                  <a:lnTo>
                    <a:pt x="432" y="728"/>
                  </a:lnTo>
                  <a:lnTo>
                    <a:pt x="468" y="764"/>
                  </a:lnTo>
                  <a:lnTo>
                    <a:pt x="648" y="764"/>
                  </a:lnTo>
                  <a:lnTo>
                    <a:pt x="708" y="711"/>
                  </a:lnTo>
                  <a:lnTo>
                    <a:pt x="792" y="692"/>
                  </a:lnTo>
                  <a:lnTo>
                    <a:pt x="887" y="711"/>
                  </a:lnTo>
                  <a:lnTo>
                    <a:pt x="936" y="764"/>
                  </a:lnTo>
                  <a:lnTo>
                    <a:pt x="1056" y="745"/>
                  </a:lnTo>
                  <a:lnTo>
                    <a:pt x="932" y="474"/>
                  </a:lnTo>
                  <a:cubicBezTo>
                    <a:pt x="876" y="384"/>
                    <a:pt x="781" y="282"/>
                    <a:pt x="717" y="203"/>
                  </a:cubicBezTo>
                  <a:cubicBezTo>
                    <a:pt x="653" y="124"/>
                    <a:pt x="601" y="2"/>
                    <a:pt x="548" y="0"/>
                  </a:cubicBezTo>
                  <a:lnTo>
                    <a:pt x="401" y="192"/>
                  </a:lnTo>
                  <a:lnTo>
                    <a:pt x="0" y="800"/>
                  </a:lnTo>
                  <a:close/>
                </a:path>
              </a:pathLst>
            </a:custGeom>
            <a:solidFill>
              <a:srgbClr val="66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29"/>
            <p:cNvSpPr/>
            <p:nvPr/>
          </p:nvSpPr>
          <p:spPr>
            <a:xfrm>
              <a:off x="762120" y="4191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ptid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 Box 30"/>
          <p:cNvSpPr/>
          <p:nvPr/>
        </p:nvSpPr>
        <p:spPr>
          <a:xfrm>
            <a:off x="914400" y="5334120"/>
            <a:ext cx="36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Peptide (from prote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1"/>
          <p:cNvSpPr/>
          <p:nvPr/>
        </p:nvSpPr>
        <p:spPr>
          <a:xfrm>
            <a:off x="7238880" y="4952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271c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2"/>
          <p:cNvSpPr/>
          <p:nvPr/>
        </p:nvSpPr>
        <p:spPr>
          <a:xfrm rot="16200000">
            <a:off x="1587240" y="42346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1"/>
          <p:cNvSpPr/>
          <p:nvPr/>
        </p:nvSpPr>
        <p:spPr>
          <a:xfrm>
            <a:off x="6248520" y="1890720"/>
            <a:ext cx="457200" cy="45720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"/>
          <p:cNvPicPr/>
          <p:nvPr/>
        </p:nvPicPr>
        <p:blipFill>
          <a:blip r:embed="rId1"/>
          <a:srcRect l="0" t="0" r="53150" b="0"/>
          <a:stretch/>
        </p:blipFill>
        <p:spPr>
          <a:xfrm>
            <a:off x="1143000" y="977760"/>
            <a:ext cx="4759200" cy="63374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side the small intest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901840" y="1447560"/>
            <a:ext cx="3032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rge folds line the intestine called villi and microvill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= LOTS of surface are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How much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TextBox 4"/>
          <p:cNvSpPr/>
          <p:nvPr/>
        </p:nvSpPr>
        <p:spPr>
          <a:xfrm>
            <a:off x="5981760" y="5356080"/>
            <a:ext cx="3162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~6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ize of a baseball diamo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386" name="Group 22"/>
          <p:cNvGrpSpPr/>
          <p:nvPr/>
        </p:nvGrpSpPr>
        <p:grpSpPr>
          <a:xfrm>
            <a:off x="764280" y="2133720"/>
            <a:ext cx="7617240" cy="2039400"/>
            <a:chOff x="764280" y="2133720"/>
            <a:chExt cx="7617240" cy="2039400"/>
          </a:xfrm>
        </p:grpSpPr>
        <p:grpSp>
          <p:nvGrpSpPr>
            <p:cNvPr id="387" name="Group 5"/>
            <p:cNvGrpSpPr/>
            <p:nvPr/>
          </p:nvGrpSpPr>
          <p:grpSpPr>
            <a:xfrm>
              <a:off x="1631160" y="2133720"/>
              <a:ext cx="5716800" cy="1611000"/>
              <a:chOff x="1631160" y="2133720"/>
              <a:chExt cx="5716800" cy="1611000"/>
            </a:xfrm>
          </p:grpSpPr>
          <p:sp>
            <p:nvSpPr>
              <p:cNvPr id="388" name="Line 6"/>
              <p:cNvSpPr/>
              <p:nvPr/>
            </p:nvSpPr>
            <p:spPr>
              <a:xfrm>
                <a:off x="1631160" y="2133720"/>
                <a:ext cx="564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7"/>
              <p:cNvSpPr/>
              <p:nvPr/>
            </p:nvSpPr>
            <p:spPr>
              <a:xfrm>
                <a:off x="1699920" y="3744720"/>
                <a:ext cx="564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8"/>
            <p:cNvGrpSpPr/>
            <p:nvPr/>
          </p:nvGrpSpPr>
          <p:grpSpPr>
            <a:xfrm>
              <a:off x="1606680" y="2207160"/>
              <a:ext cx="5763240" cy="1506960"/>
              <a:chOff x="1606680" y="2207160"/>
              <a:chExt cx="5763240" cy="1506960"/>
            </a:xfrm>
          </p:grpSpPr>
          <p:sp>
            <p:nvSpPr>
              <p:cNvPr id="391" name="Freeform 9"/>
              <p:cNvSpPr/>
              <p:nvPr/>
            </p:nvSpPr>
            <p:spPr>
              <a:xfrm>
                <a:off x="1606680" y="2207160"/>
                <a:ext cx="5602320" cy="1011600"/>
              </a:xfrm>
              <a:custGeom>
                <a:avLst/>
                <a:gdLst>
                  <a:gd name="textAreaLeft" fmla="*/ 0 w 5602320"/>
                  <a:gd name="textAreaRight" fmla="*/ 5602680 w 560232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3904" h="392">
                    <a:moveTo>
                      <a:pt x="16" y="32"/>
                    </a:moveTo>
                    <a:cubicBezTo>
                      <a:pt x="8" y="32"/>
                      <a:pt x="0" y="32"/>
                      <a:pt x="64" y="32"/>
                    </a:cubicBezTo>
                    <a:cubicBezTo>
                      <a:pt x="128" y="32"/>
                      <a:pt x="344" y="8"/>
                      <a:pt x="400" y="32"/>
                    </a:cubicBezTo>
                    <a:cubicBezTo>
                      <a:pt x="456" y="56"/>
                      <a:pt x="391" y="135"/>
                      <a:pt x="400" y="176"/>
                    </a:cubicBezTo>
                    <a:cubicBezTo>
                      <a:pt x="409" y="217"/>
                      <a:pt x="419" y="255"/>
                      <a:pt x="455" y="277"/>
                    </a:cubicBezTo>
                    <a:cubicBezTo>
                      <a:pt x="491" y="299"/>
                      <a:pt x="572" y="319"/>
                      <a:pt x="619" y="310"/>
                    </a:cubicBezTo>
                    <a:cubicBezTo>
                      <a:pt x="666" y="301"/>
                      <a:pt x="724" y="270"/>
                      <a:pt x="736" y="224"/>
                    </a:cubicBezTo>
                    <a:cubicBezTo>
                      <a:pt x="748" y="178"/>
                      <a:pt x="632" y="64"/>
                      <a:pt x="688" y="32"/>
                    </a:cubicBezTo>
                    <a:cubicBezTo>
                      <a:pt x="744" y="0"/>
                      <a:pt x="1000" y="8"/>
                      <a:pt x="1072" y="32"/>
                    </a:cubicBezTo>
                    <a:cubicBezTo>
                      <a:pt x="1144" y="56"/>
                      <a:pt x="1083" y="130"/>
                      <a:pt x="1120" y="176"/>
                    </a:cubicBezTo>
                    <a:cubicBezTo>
                      <a:pt x="1157" y="222"/>
                      <a:pt x="1231" y="295"/>
                      <a:pt x="1294" y="310"/>
                    </a:cubicBezTo>
                    <a:cubicBezTo>
                      <a:pt x="1357" y="325"/>
                      <a:pt x="1453" y="292"/>
                      <a:pt x="1500" y="269"/>
                    </a:cubicBezTo>
                    <a:cubicBezTo>
                      <a:pt x="1547" y="246"/>
                      <a:pt x="1557" y="202"/>
                      <a:pt x="1574" y="171"/>
                    </a:cubicBezTo>
                    <a:cubicBezTo>
                      <a:pt x="1591" y="140"/>
                      <a:pt x="1596" y="103"/>
                      <a:pt x="1600" y="80"/>
                    </a:cubicBezTo>
                    <a:cubicBezTo>
                      <a:pt x="1604" y="57"/>
                      <a:pt x="1528" y="40"/>
                      <a:pt x="1600" y="32"/>
                    </a:cubicBezTo>
                    <a:cubicBezTo>
                      <a:pt x="1672" y="24"/>
                      <a:pt x="1936" y="24"/>
                      <a:pt x="2032" y="32"/>
                    </a:cubicBezTo>
                    <a:cubicBezTo>
                      <a:pt x="2128" y="40"/>
                      <a:pt x="2168" y="56"/>
                      <a:pt x="2176" y="80"/>
                    </a:cubicBezTo>
                    <a:cubicBezTo>
                      <a:pt x="2184" y="104"/>
                      <a:pt x="2096" y="144"/>
                      <a:pt x="2080" y="176"/>
                    </a:cubicBezTo>
                    <a:cubicBezTo>
                      <a:pt x="2064" y="208"/>
                      <a:pt x="2048" y="240"/>
                      <a:pt x="2080" y="272"/>
                    </a:cubicBezTo>
                    <a:cubicBezTo>
                      <a:pt x="2112" y="304"/>
                      <a:pt x="2208" y="368"/>
                      <a:pt x="2272" y="368"/>
                    </a:cubicBezTo>
                    <a:cubicBezTo>
                      <a:pt x="2336" y="368"/>
                      <a:pt x="2424" y="304"/>
                      <a:pt x="2464" y="272"/>
                    </a:cubicBezTo>
                    <a:cubicBezTo>
                      <a:pt x="2504" y="240"/>
                      <a:pt x="2512" y="200"/>
                      <a:pt x="2512" y="176"/>
                    </a:cubicBezTo>
                    <a:cubicBezTo>
                      <a:pt x="2512" y="152"/>
                      <a:pt x="2480" y="152"/>
                      <a:pt x="2464" y="128"/>
                    </a:cubicBezTo>
                    <a:cubicBezTo>
                      <a:pt x="2448" y="104"/>
                      <a:pt x="2336" y="48"/>
                      <a:pt x="2416" y="32"/>
                    </a:cubicBezTo>
                    <a:cubicBezTo>
                      <a:pt x="2496" y="16"/>
                      <a:pt x="2848" y="16"/>
                      <a:pt x="2944" y="32"/>
                    </a:cubicBezTo>
                    <a:cubicBezTo>
                      <a:pt x="3040" y="48"/>
                      <a:pt x="2992" y="96"/>
                      <a:pt x="2992" y="128"/>
                    </a:cubicBezTo>
                    <a:cubicBezTo>
                      <a:pt x="2992" y="160"/>
                      <a:pt x="2952" y="192"/>
                      <a:pt x="2944" y="224"/>
                    </a:cubicBezTo>
                    <a:cubicBezTo>
                      <a:pt x="2936" y="256"/>
                      <a:pt x="2912" y="296"/>
                      <a:pt x="2944" y="320"/>
                    </a:cubicBezTo>
                    <a:cubicBezTo>
                      <a:pt x="2976" y="344"/>
                      <a:pt x="3080" y="360"/>
                      <a:pt x="3136" y="368"/>
                    </a:cubicBezTo>
                    <a:cubicBezTo>
                      <a:pt x="3192" y="376"/>
                      <a:pt x="3232" y="392"/>
                      <a:pt x="3280" y="368"/>
                    </a:cubicBezTo>
                    <a:cubicBezTo>
                      <a:pt x="3328" y="344"/>
                      <a:pt x="3400" y="264"/>
                      <a:pt x="3424" y="224"/>
                    </a:cubicBezTo>
                    <a:cubicBezTo>
                      <a:pt x="3448" y="184"/>
                      <a:pt x="3440" y="152"/>
                      <a:pt x="3424" y="128"/>
                    </a:cubicBezTo>
                    <a:cubicBezTo>
                      <a:pt x="3408" y="104"/>
                      <a:pt x="3344" y="96"/>
                      <a:pt x="3328" y="80"/>
                    </a:cubicBezTo>
                    <a:cubicBezTo>
                      <a:pt x="3312" y="64"/>
                      <a:pt x="3232" y="40"/>
                      <a:pt x="3328" y="32"/>
                    </a:cubicBezTo>
                    <a:cubicBezTo>
                      <a:pt x="3424" y="24"/>
                      <a:pt x="3664" y="28"/>
                      <a:pt x="3904" y="3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1616760" y="2702520"/>
                <a:ext cx="5753160" cy="1011600"/>
              </a:xfrm>
              <a:custGeom>
                <a:avLst/>
                <a:gdLst>
                  <a:gd name="textAreaLeft" fmla="*/ 0 w 5753160"/>
                  <a:gd name="textAreaRight" fmla="*/ 5753520 w 575316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4009" h="392">
                    <a:moveTo>
                      <a:pt x="57" y="368"/>
                    </a:moveTo>
                    <a:cubicBezTo>
                      <a:pt x="85" y="380"/>
                      <a:pt x="113" y="392"/>
                      <a:pt x="105" y="368"/>
                    </a:cubicBezTo>
                    <a:cubicBezTo>
                      <a:pt x="97" y="344"/>
                      <a:pt x="0" y="261"/>
                      <a:pt x="9" y="224"/>
                    </a:cubicBezTo>
                    <a:cubicBezTo>
                      <a:pt x="18" y="187"/>
                      <a:pt x="120" y="159"/>
                      <a:pt x="160" y="143"/>
                    </a:cubicBezTo>
                    <a:cubicBezTo>
                      <a:pt x="200" y="127"/>
                      <a:pt x="208" y="120"/>
                      <a:pt x="249" y="128"/>
                    </a:cubicBezTo>
                    <a:cubicBezTo>
                      <a:pt x="290" y="136"/>
                      <a:pt x="375" y="166"/>
                      <a:pt x="407" y="192"/>
                    </a:cubicBezTo>
                    <a:cubicBezTo>
                      <a:pt x="439" y="218"/>
                      <a:pt x="432" y="257"/>
                      <a:pt x="440" y="283"/>
                    </a:cubicBezTo>
                    <a:cubicBezTo>
                      <a:pt x="448" y="309"/>
                      <a:pt x="440" y="335"/>
                      <a:pt x="456" y="349"/>
                    </a:cubicBezTo>
                    <a:cubicBezTo>
                      <a:pt x="472" y="363"/>
                      <a:pt x="492" y="365"/>
                      <a:pt x="537" y="368"/>
                    </a:cubicBezTo>
                    <a:cubicBezTo>
                      <a:pt x="582" y="371"/>
                      <a:pt x="695" y="383"/>
                      <a:pt x="729" y="368"/>
                    </a:cubicBezTo>
                    <a:cubicBezTo>
                      <a:pt x="763" y="353"/>
                      <a:pt x="729" y="311"/>
                      <a:pt x="744" y="275"/>
                    </a:cubicBezTo>
                    <a:cubicBezTo>
                      <a:pt x="759" y="239"/>
                      <a:pt x="785" y="172"/>
                      <a:pt x="818" y="151"/>
                    </a:cubicBezTo>
                    <a:cubicBezTo>
                      <a:pt x="851" y="130"/>
                      <a:pt x="909" y="147"/>
                      <a:pt x="942" y="151"/>
                    </a:cubicBezTo>
                    <a:cubicBezTo>
                      <a:pt x="975" y="155"/>
                      <a:pt x="989" y="164"/>
                      <a:pt x="1017" y="176"/>
                    </a:cubicBezTo>
                    <a:cubicBezTo>
                      <a:pt x="1045" y="188"/>
                      <a:pt x="1081" y="208"/>
                      <a:pt x="1113" y="224"/>
                    </a:cubicBezTo>
                    <a:cubicBezTo>
                      <a:pt x="1145" y="240"/>
                      <a:pt x="1185" y="248"/>
                      <a:pt x="1209" y="272"/>
                    </a:cubicBezTo>
                    <a:cubicBezTo>
                      <a:pt x="1233" y="296"/>
                      <a:pt x="1217" y="352"/>
                      <a:pt x="1257" y="368"/>
                    </a:cubicBezTo>
                    <a:cubicBezTo>
                      <a:pt x="1297" y="384"/>
                      <a:pt x="1409" y="384"/>
                      <a:pt x="1449" y="368"/>
                    </a:cubicBezTo>
                    <a:cubicBezTo>
                      <a:pt x="1489" y="352"/>
                      <a:pt x="1473" y="304"/>
                      <a:pt x="1497" y="272"/>
                    </a:cubicBezTo>
                    <a:cubicBezTo>
                      <a:pt x="1521" y="240"/>
                      <a:pt x="1539" y="196"/>
                      <a:pt x="1593" y="176"/>
                    </a:cubicBezTo>
                    <a:cubicBezTo>
                      <a:pt x="1647" y="156"/>
                      <a:pt x="1766" y="151"/>
                      <a:pt x="1822" y="151"/>
                    </a:cubicBezTo>
                    <a:cubicBezTo>
                      <a:pt x="1878" y="151"/>
                      <a:pt x="1895" y="156"/>
                      <a:pt x="1929" y="176"/>
                    </a:cubicBezTo>
                    <a:cubicBezTo>
                      <a:pt x="1963" y="196"/>
                      <a:pt x="1993" y="248"/>
                      <a:pt x="2025" y="272"/>
                    </a:cubicBezTo>
                    <a:cubicBezTo>
                      <a:pt x="2057" y="296"/>
                      <a:pt x="2097" y="304"/>
                      <a:pt x="2121" y="320"/>
                    </a:cubicBezTo>
                    <a:cubicBezTo>
                      <a:pt x="2145" y="336"/>
                      <a:pt x="2129" y="360"/>
                      <a:pt x="2169" y="368"/>
                    </a:cubicBezTo>
                    <a:cubicBezTo>
                      <a:pt x="2209" y="376"/>
                      <a:pt x="2305" y="368"/>
                      <a:pt x="2361" y="368"/>
                    </a:cubicBezTo>
                    <a:cubicBezTo>
                      <a:pt x="2417" y="368"/>
                      <a:pt x="2481" y="384"/>
                      <a:pt x="2505" y="368"/>
                    </a:cubicBezTo>
                    <a:cubicBezTo>
                      <a:pt x="2529" y="352"/>
                      <a:pt x="2502" y="296"/>
                      <a:pt x="2505" y="272"/>
                    </a:cubicBezTo>
                    <a:cubicBezTo>
                      <a:pt x="2508" y="248"/>
                      <a:pt x="2511" y="245"/>
                      <a:pt x="2521" y="225"/>
                    </a:cubicBezTo>
                    <a:cubicBezTo>
                      <a:pt x="2531" y="205"/>
                      <a:pt x="2545" y="173"/>
                      <a:pt x="2563" y="151"/>
                    </a:cubicBezTo>
                    <a:cubicBezTo>
                      <a:pt x="2581" y="129"/>
                      <a:pt x="2603" y="97"/>
                      <a:pt x="2628" y="94"/>
                    </a:cubicBezTo>
                    <a:cubicBezTo>
                      <a:pt x="2653" y="91"/>
                      <a:pt x="2684" y="116"/>
                      <a:pt x="2711" y="135"/>
                    </a:cubicBezTo>
                    <a:cubicBezTo>
                      <a:pt x="2738" y="154"/>
                      <a:pt x="2771" y="186"/>
                      <a:pt x="2793" y="209"/>
                    </a:cubicBezTo>
                    <a:cubicBezTo>
                      <a:pt x="2815" y="232"/>
                      <a:pt x="2833" y="254"/>
                      <a:pt x="2841" y="272"/>
                    </a:cubicBezTo>
                    <a:cubicBezTo>
                      <a:pt x="2849" y="290"/>
                      <a:pt x="2841" y="304"/>
                      <a:pt x="2841" y="320"/>
                    </a:cubicBezTo>
                    <a:cubicBezTo>
                      <a:pt x="2841" y="336"/>
                      <a:pt x="2753" y="360"/>
                      <a:pt x="2841" y="368"/>
                    </a:cubicBezTo>
                    <a:cubicBezTo>
                      <a:pt x="2929" y="376"/>
                      <a:pt x="3257" y="368"/>
                      <a:pt x="3369" y="368"/>
                    </a:cubicBezTo>
                    <a:cubicBezTo>
                      <a:pt x="3481" y="368"/>
                      <a:pt x="3488" y="382"/>
                      <a:pt x="3513" y="368"/>
                    </a:cubicBezTo>
                    <a:cubicBezTo>
                      <a:pt x="3538" y="354"/>
                      <a:pt x="3515" y="312"/>
                      <a:pt x="3517" y="283"/>
                    </a:cubicBezTo>
                    <a:cubicBezTo>
                      <a:pt x="3519" y="254"/>
                      <a:pt x="3518" y="218"/>
                      <a:pt x="3525" y="192"/>
                    </a:cubicBezTo>
                    <a:cubicBezTo>
                      <a:pt x="3532" y="166"/>
                      <a:pt x="3528" y="154"/>
                      <a:pt x="3558" y="127"/>
                    </a:cubicBezTo>
                    <a:cubicBezTo>
                      <a:pt x="3588" y="100"/>
                      <a:pt x="3657" y="48"/>
                      <a:pt x="3705" y="32"/>
                    </a:cubicBezTo>
                    <a:cubicBezTo>
                      <a:pt x="3753" y="16"/>
                      <a:pt x="3817" y="0"/>
                      <a:pt x="3849" y="32"/>
                    </a:cubicBezTo>
                    <a:cubicBezTo>
                      <a:pt x="3881" y="64"/>
                      <a:pt x="3889" y="184"/>
                      <a:pt x="3897" y="224"/>
                    </a:cubicBezTo>
                    <a:cubicBezTo>
                      <a:pt x="3905" y="264"/>
                      <a:pt x="3897" y="248"/>
                      <a:pt x="3897" y="272"/>
                    </a:cubicBezTo>
                    <a:cubicBezTo>
                      <a:pt x="3897" y="296"/>
                      <a:pt x="3881" y="352"/>
                      <a:pt x="3897" y="368"/>
                    </a:cubicBezTo>
                    <a:cubicBezTo>
                      <a:pt x="3913" y="384"/>
                      <a:pt x="3977" y="376"/>
                      <a:pt x="3993" y="368"/>
                    </a:cubicBezTo>
                    <a:cubicBezTo>
                      <a:pt x="4009" y="360"/>
                      <a:pt x="4001" y="340"/>
                      <a:pt x="3993" y="32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11"/>
            <p:cNvGrpSpPr/>
            <p:nvPr/>
          </p:nvGrpSpPr>
          <p:grpSpPr>
            <a:xfrm>
              <a:off x="764280" y="2186640"/>
              <a:ext cx="1418040" cy="489600"/>
              <a:chOff x="764280" y="2186640"/>
              <a:chExt cx="1418040" cy="489600"/>
            </a:xfrm>
          </p:grpSpPr>
          <p:sp>
            <p:nvSpPr>
              <p:cNvPr id="394" name="Text Box 12"/>
              <p:cNvSpPr/>
              <p:nvPr/>
            </p:nvSpPr>
            <p:spPr>
              <a:xfrm>
                <a:off x="764280" y="2307960"/>
                <a:ext cx="1207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4f271c"/>
                    </a:solidFill>
                    <a:latin typeface="Arial"/>
                  </a:rPr>
                  <a:t>Outer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3"/>
              <p:cNvSpPr/>
              <p:nvPr/>
            </p:nvSpPr>
            <p:spPr>
              <a:xfrm flipV="1">
                <a:off x="1730520" y="2186640"/>
                <a:ext cx="451800" cy="239400"/>
              </a:xfrm>
              <a:prstGeom prst="line">
                <a:avLst/>
              </a:prstGeom>
              <a:ln w="9360">
                <a:solidFill>
                  <a:srgbClr val="4f27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Group 14"/>
            <p:cNvGrpSpPr/>
            <p:nvPr/>
          </p:nvGrpSpPr>
          <p:grpSpPr>
            <a:xfrm>
              <a:off x="764280" y="3085560"/>
              <a:ext cx="1288800" cy="1087560"/>
              <a:chOff x="764280" y="3085560"/>
              <a:chExt cx="1288800" cy="1087560"/>
            </a:xfrm>
          </p:grpSpPr>
          <p:sp>
            <p:nvSpPr>
              <p:cNvPr id="397" name="Text Box 15"/>
              <p:cNvSpPr/>
              <p:nvPr/>
            </p:nvSpPr>
            <p:spPr>
              <a:xfrm>
                <a:off x="764280" y="3804840"/>
                <a:ext cx="1155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4f271c"/>
                    </a:solidFill>
                    <a:latin typeface="Arial"/>
                  </a:rPr>
                  <a:t>Inner wal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6"/>
              <p:cNvSpPr/>
              <p:nvPr/>
            </p:nvSpPr>
            <p:spPr>
              <a:xfrm flipV="1">
                <a:off x="1472040" y="3085560"/>
                <a:ext cx="581040" cy="718920"/>
              </a:xfrm>
              <a:prstGeom prst="line">
                <a:avLst/>
              </a:prstGeom>
              <a:ln w="9360">
                <a:solidFill>
                  <a:srgbClr val="4f27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Freeform 17"/>
            <p:cNvSpPr/>
            <p:nvPr/>
          </p:nvSpPr>
          <p:spPr>
            <a:xfrm>
              <a:off x="1278360" y="2486880"/>
              <a:ext cx="5991840" cy="1033200"/>
            </a:xfrm>
            <a:custGeom>
              <a:avLst/>
              <a:gdLst>
                <a:gd name="textAreaLeft" fmla="*/ 0 w 5991840"/>
                <a:gd name="textAreaRight" fmla="*/ 5992200 w 5991840"/>
                <a:gd name="textAreaTop" fmla="*/ 0 h 1033200"/>
                <a:gd name="textAreaBottom" fmla="*/ 1033560 h 1033200"/>
              </a:gdLst>
              <a:ahLst/>
              <a:rect l="textAreaLeft" t="textAreaTop" r="textAreaRight" b="textAreaBottom"/>
              <a:pathLst>
                <a:path w="4176" h="400">
                  <a:moveTo>
                    <a:pt x="0" y="272"/>
                  </a:moveTo>
                  <a:cubicBezTo>
                    <a:pt x="84" y="216"/>
                    <a:pt x="168" y="160"/>
                    <a:pt x="240" y="128"/>
                  </a:cubicBezTo>
                  <a:cubicBezTo>
                    <a:pt x="312" y="96"/>
                    <a:pt x="368" y="64"/>
                    <a:pt x="432" y="80"/>
                  </a:cubicBezTo>
                  <a:cubicBezTo>
                    <a:pt x="496" y="96"/>
                    <a:pt x="560" y="192"/>
                    <a:pt x="624" y="224"/>
                  </a:cubicBezTo>
                  <a:cubicBezTo>
                    <a:pt x="688" y="256"/>
                    <a:pt x="744" y="280"/>
                    <a:pt x="816" y="272"/>
                  </a:cubicBezTo>
                  <a:cubicBezTo>
                    <a:pt x="888" y="264"/>
                    <a:pt x="1000" y="208"/>
                    <a:pt x="1056" y="176"/>
                  </a:cubicBezTo>
                  <a:cubicBezTo>
                    <a:pt x="1112" y="144"/>
                    <a:pt x="1104" y="72"/>
                    <a:pt x="1152" y="80"/>
                  </a:cubicBezTo>
                  <a:cubicBezTo>
                    <a:pt x="1200" y="88"/>
                    <a:pt x="1280" y="192"/>
                    <a:pt x="1344" y="224"/>
                  </a:cubicBezTo>
                  <a:cubicBezTo>
                    <a:pt x="1408" y="256"/>
                    <a:pt x="1440" y="280"/>
                    <a:pt x="1536" y="272"/>
                  </a:cubicBezTo>
                  <a:cubicBezTo>
                    <a:pt x="1632" y="264"/>
                    <a:pt x="1832" y="208"/>
                    <a:pt x="1920" y="176"/>
                  </a:cubicBezTo>
                  <a:cubicBezTo>
                    <a:pt x="2008" y="144"/>
                    <a:pt x="2008" y="64"/>
                    <a:pt x="2064" y="80"/>
                  </a:cubicBezTo>
                  <a:cubicBezTo>
                    <a:pt x="2120" y="96"/>
                    <a:pt x="2176" y="232"/>
                    <a:pt x="2256" y="272"/>
                  </a:cubicBezTo>
                  <a:cubicBezTo>
                    <a:pt x="2336" y="312"/>
                    <a:pt x="2464" y="328"/>
                    <a:pt x="2544" y="320"/>
                  </a:cubicBezTo>
                  <a:cubicBezTo>
                    <a:pt x="2624" y="312"/>
                    <a:pt x="2680" y="264"/>
                    <a:pt x="2736" y="224"/>
                  </a:cubicBezTo>
                  <a:cubicBezTo>
                    <a:pt x="2792" y="184"/>
                    <a:pt x="2832" y="88"/>
                    <a:pt x="2880" y="80"/>
                  </a:cubicBezTo>
                  <a:cubicBezTo>
                    <a:pt x="2928" y="72"/>
                    <a:pt x="2976" y="128"/>
                    <a:pt x="3024" y="176"/>
                  </a:cubicBezTo>
                  <a:cubicBezTo>
                    <a:pt x="3072" y="224"/>
                    <a:pt x="3088" y="336"/>
                    <a:pt x="3168" y="368"/>
                  </a:cubicBezTo>
                  <a:cubicBezTo>
                    <a:pt x="3248" y="400"/>
                    <a:pt x="3416" y="392"/>
                    <a:pt x="3504" y="368"/>
                  </a:cubicBezTo>
                  <a:cubicBezTo>
                    <a:pt x="3592" y="344"/>
                    <a:pt x="3632" y="280"/>
                    <a:pt x="3696" y="224"/>
                  </a:cubicBezTo>
                  <a:cubicBezTo>
                    <a:pt x="3760" y="168"/>
                    <a:pt x="3808" y="64"/>
                    <a:pt x="3888" y="32"/>
                  </a:cubicBezTo>
                  <a:cubicBezTo>
                    <a:pt x="3968" y="0"/>
                    <a:pt x="4128" y="32"/>
                    <a:pt x="4176" y="3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8"/>
            <p:cNvSpPr/>
            <p:nvPr/>
          </p:nvSpPr>
          <p:spPr>
            <a:xfrm>
              <a:off x="7348320" y="2426760"/>
              <a:ext cx="103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Pathway for 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19" descr="107%20villi"/>
          <p:cNvPicPr/>
          <p:nvPr/>
        </p:nvPicPr>
        <p:blipFill>
          <a:blip r:embed="rId1"/>
          <a:srcRect l="0" t="17163" r="0" b="0"/>
          <a:stretch/>
        </p:blipFill>
        <p:spPr>
          <a:xfrm>
            <a:off x="4038480" y="3840120"/>
            <a:ext cx="4038840" cy="2676600"/>
          </a:xfrm>
          <a:prstGeom prst="rect">
            <a:avLst/>
          </a:prstGeom>
          <a:ln w="57240">
            <a:solidFill>
              <a:srgbClr val="4f271c"/>
            </a:solidFill>
            <a:miter/>
          </a:ln>
        </p:spPr>
      </p:pic>
      <p:sp>
        <p:nvSpPr>
          <p:cNvPr id="402" name="Line 24"/>
          <p:cNvSpPr/>
          <p:nvPr/>
        </p:nvSpPr>
        <p:spPr>
          <a:xfrm>
            <a:off x="3962520" y="3124080"/>
            <a:ext cx="29880" cy="666720"/>
          </a:xfrm>
          <a:prstGeom prst="line">
            <a:avLst/>
          </a:prstGeom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5"/>
          <p:cNvSpPr/>
          <p:nvPr/>
        </p:nvSpPr>
        <p:spPr>
          <a:xfrm>
            <a:off x="4343400" y="3124080"/>
            <a:ext cx="3733920" cy="663840"/>
          </a:xfrm>
          <a:prstGeom prst="line">
            <a:avLst/>
          </a:prstGeom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6"/>
          <p:cNvSpPr/>
          <p:nvPr/>
        </p:nvSpPr>
        <p:spPr>
          <a:xfrm>
            <a:off x="3984480" y="2967120"/>
            <a:ext cx="381240" cy="228600"/>
          </a:xfrm>
          <a:prstGeom prst="rect">
            <a:avLst/>
          </a:prstGeom>
          <a:noFill/>
          <a:ln w="57240">
            <a:solidFill>
              <a:srgbClr val="4f27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-70200"/>
            <a:ext cx="198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462560" y="20160"/>
            <a:ext cx="4681440" cy="68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villus has a very thin layer of cells around it (epithelium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neath the cells are a lymphatic vessel and a blood capillar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tty acids and glycerol enter the lymphatic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lucose and amino acids enter to the blood system and are taken to the liver where they are proces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1"/>
          <a:srcRect l="49607" t="0" r="17719" b="0"/>
          <a:stretch/>
        </p:blipFill>
        <p:spPr>
          <a:xfrm>
            <a:off x="1042920" y="765000"/>
            <a:ext cx="3319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close up look at villi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Picture 5" descr="villismall"/>
          <p:cNvPicPr/>
          <p:nvPr/>
        </p:nvPicPr>
        <p:blipFill>
          <a:blip r:embed="rId1"/>
          <a:stretch/>
        </p:blipFill>
        <p:spPr>
          <a:xfrm>
            <a:off x="2971800" y="1601640"/>
            <a:ext cx="381492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arge Intestin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sists of the colon, the rectum and the opening at the end, the an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lon has 3 pa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scen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descend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long is i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bout 1.5m long (about 5 fee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st 20 cm is 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ect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USUARIO</cp:lastModifiedBy>
  <dcterms:modified xsi:type="dcterms:W3CDTF">2013-04-09T16:04:38Z</dcterms:modified>
  <cp:revision>47</cp:revision>
  <dc:subject/>
  <dc:title>The Digestive System Biology 12</dc:title>
</cp:coreProperties>
</file>